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89722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Img"/>
          </p:nvPr>
        </p:nvSpPr>
        <p:spPr>
          <a:xfrm>
            <a:off x="387360" y="685440"/>
            <a:ext cx="608328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EB2B-6D5F-4ACE-9599-7F25CD758F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387360" y="685800"/>
            <a:ext cx="60832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Google Shape;87;p1:notes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336-C1A3-4C48-AE9A-EDD0C45806C7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387360" y="685800"/>
            <a:ext cx="60832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Google Shape;87;p1:notes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2D3D-A873-44D2-8E62-194C434C0933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5BA-9DF1-461F-9E64-D3754E9D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CFA-6554-4C3C-8548-87E50FE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5C6-F7F3-454B-8C66-F0D4BEA2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820-9C6F-448A-B18A-0B86ED05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C66-113D-44DC-BA90-1F78B12A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394-4AB2-4731-ACB0-6ECF615D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538-06C2-46EC-90DA-3A78F624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A2D-DB8B-4F30-80CE-A05285E0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924-DB51-45B4-A08E-15EFE981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116-283E-4DE2-A3D4-0A77EDF4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AE1-F586-41A8-8EAC-DE13AB6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8E6-1E67-4353-9E7D-C5FEDCA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422360" y="950760"/>
            <a:ext cx="16127280" cy="825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422360" y="6440400"/>
            <a:ext cx="1612728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686160" y="308916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223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686160" y="6440400"/>
            <a:ext cx="786996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7492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327840" y="308916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42236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687492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12327840" y="6440400"/>
            <a:ext cx="5192640" cy="30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22360" y="9740880"/>
            <a:ext cx="39528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81440" y="9740880"/>
            <a:ext cx="600876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596840" y="9740880"/>
            <a:ext cx="39528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17F2-CB5C-48E4-B84C-24657BBF91E2}" type="slidenum">
              <a:rPr b="0" lang="ru-RU" sz="21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22360" y="950760"/>
            <a:ext cx="16127280" cy="17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422360" y="3089160"/>
            <a:ext cx="1612728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Google Shape;91;p1"/>
          <p:cNvSpPr/>
          <p:nvPr/>
        </p:nvSpPr>
        <p:spPr>
          <a:xfrm>
            <a:off x="3083040" y="3997440"/>
            <a:ext cx="1235556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А ПОВЫШЕНИЯ КВАЛИФИКАЦИИ «СОДЕРЖАНИЕ И МЕТОДИКА ОБУЧЕНИЯ ФИНАНСОВОЙ ГРАМОТНОСТИ В НАЧАЛЬНОЙ ШКОЛЕ НА ОСНОВЕ ФУНКЦИОНАЛЬНОГО ПОДХ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3" descr=""/>
          <p:cNvPicPr/>
          <p:nvPr/>
        </p:nvPicPr>
        <p:blipFill>
          <a:blip r:embed="rId2"/>
          <a:stretch/>
        </p:blipFill>
        <p:spPr>
          <a:xfrm>
            <a:off x="0" y="316080"/>
            <a:ext cx="10148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Google Shape;106;p3"/>
          <p:cNvSpPr/>
          <p:nvPr/>
        </p:nvSpPr>
        <p:spPr>
          <a:xfrm>
            <a:off x="326880" y="1415880"/>
            <a:ext cx="1864548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6. ИНТЕГРАЦИЯ С ДРУГИМИ ВИДАМИ ФУНКЦИОНАЛЬНОЙ ГРАМОТНОСТИ (интегративные задания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D44-62BE-4675-94A7-959F23D2CB97}" type="slidenum"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"/>
          <p:cNvSpPr/>
          <p:nvPr/>
        </p:nvSpPr>
        <p:spPr>
          <a:xfrm>
            <a:off x="2021040" y="4867200"/>
            <a:ext cx="1617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и математическая грамот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и читательская грамот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Прямоугольник 1"/>
          <p:cNvSpPr/>
          <p:nvPr/>
        </p:nvSpPr>
        <p:spPr>
          <a:xfrm>
            <a:off x="1978200" y="893880"/>
            <a:ext cx="1482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Proxima Nova"/>
              </a:rPr>
              <a:t>Интегративн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06640" y="1725480"/>
          <a:ext cx="17267040" cy="8791560"/>
        </p:xfrm>
        <a:graphic>
          <a:graphicData uri="http://schemas.openxmlformats.org/drawingml/2006/table">
            <a:tbl>
              <a:tblPr/>
              <a:tblGrid>
                <a:gridCol w="17267040"/>
              </a:tblGrid>
              <a:tr h="182484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шите задач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Каждый месяц семья Маруси откладывает 3 тысячи рублей в качестве сбережений. Сколько они смогут накопить за 6 месяцев? Хватит ли этой суммы, чтобы оплатить ремонт автомобиля, который стоит 20 тысяч рублей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932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Что проверяет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Знания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 иметь представление о сбережениях, о количестве сбережений за определённый промежуток времен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Умения: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уметь рассчитывать количество сбережений и распределять на необходимые нуж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Установки: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Проявлять уверенность в выполняемых действия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7176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Отве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шение: 3000*6=1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Ответ: смогут накопить за 6 месяцев 18000 рублей. Этой суммы не хватит на ремонт автомобил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126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Пояснение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Обучающиеся работают в пара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Google Shape;106;p3"/>
          <p:cNvSpPr/>
          <p:nvPr/>
        </p:nvSpPr>
        <p:spPr>
          <a:xfrm>
            <a:off x="326880" y="1415880"/>
            <a:ext cx="186454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ПЛАН ПРОВЕДЕНИЯ ВНЕУРОЧНОГО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D59F-75D4-435B-A112-21281030519F}" type="slidenum"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"/>
          <p:cNvSpPr/>
          <p:nvPr/>
        </p:nvSpPr>
        <p:spPr>
          <a:xfrm>
            <a:off x="1266840" y="2668680"/>
            <a:ext cx="16489440" cy="77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Proxima Nova"/>
                <a:ea typeface="Times New Roman"/>
              </a:rPr>
              <a:t>Внеурочное занятие на тему: «Грамотный покупате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Этап 1. Организационный момент (5 мин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Этап 2. Основной (25 мин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Станция 1. «День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Станция 2. «Магази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Станция 3. «Визитка това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Станция 4.  «Удачная покуп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Proxima Nova"/>
                <a:ea typeface="Proxima Nova"/>
              </a:rPr>
              <a:t>Станция 5. «Купишь – не купиш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Этап 3. Подведение итогов игры</a:t>
            </a:r>
            <a:r>
              <a:rPr b="0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(5 мин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Этап 4. Рефлексия</a:t>
            </a:r>
            <a:r>
              <a:rPr b="0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roxima Nova"/>
                <a:ea typeface="Proxima Nova"/>
              </a:rPr>
              <a:t>(5 мин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Google Shape;106;p3"/>
          <p:cNvSpPr/>
          <p:nvPr/>
        </p:nvSpPr>
        <p:spPr>
          <a:xfrm>
            <a:off x="326880" y="1397160"/>
            <a:ext cx="186454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B51C-2199-479F-996A-B518E075A56F}" type="slidenum"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1" descr=""/>
          <p:cNvPicPr/>
          <p:nvPr/>
        </p:nvPicPr>
        <p:blipFill>
          <a:blip r:embed="rId3"/>
          <a:stretch/>
        </p:blipFill>
        <p:spPr>
          <a:xfrm>
            <a:off x="930240" y="2581200"/>
            <a:ext cx="8686800" cy="58341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2"/>
          <p:cNvSpPr/>
          <p:nvPr/>
        </p:nvSpPr>
        <p:spPr>
          <a:xfrm>
            <a:off x="10032840" y="2795760"/>
            <a:ext cx="816624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roxima Nova"/>
              </a:rPr>
              <a:t>Учащиеся на занятиях по финансовой грамо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Proxima No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roxima Nova"/>
              </a:rPr>
              <a:t>овладевают начальными навыками адаптации в мире финансовых отно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Proxima No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Proxima No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roxima Nova"/>
              </a:rPr>
              <a:t>проявляют познавательную и творческую а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roxima Nova"/>
              </a:rPr>
              <a:t>- будут мотивированы на дальнейшее изучение вопросов финансовой грамо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1" descr=""/>
          <p:cNvPicPr/>
          <p:nvPr/>
        </p:nvPicPr>
        <p:blipFill>
          <a:blip r:embed="rId2"/>
          <a:stretch/>
        </p:blipFill>
        <p:spPr>
          <a:xfrm>
            <a:off x="660240" y="4195800"/>
            <a:ext cx="88282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Google Shape;91;p1"/>
          <p:cNvSpPr/>
          <p:nvPr/>
        </p:nvSpPr>
        <p:spPr>
          <a:xfrm>
            <a:off x="1143000" y="1233360"/>
            <a:ext cx="16557480" cy="78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го округа «Город Архангельск» «Основная школа № 48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учение финансовой грамотности детей 3 класса по теме «Деньги, грамотные покупки, накопление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уша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Дружинина Ирина Геннад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Иконникова Ольга Дмитри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Романова Еле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Ткачева Мари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Рисунок 3" descr=""/>
          <p:cNvPicPr/>
          <p:nvPr/>
        </p:nvPicPr>
        <p:blipFill>
          <a:blip r:embed="rId2"/>
          <a:stretch/>
        </p:blipFill>
        <p:spPr>
          <a:xfrm>
            <a:off x="301680" y="369720"/>
            <a:ext cx="10148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106;p3"/>
          <p:cNvSpPr/>
          <p:nvPr/>
        </p:nvSpPr>
        <p:spPr>
          <a:xfrm>
            <a:off x="326880" y="1415880"/>
            <a:ext cx="186454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1. АНАЛИЗ УСЛОВИЙ ПЕДАГОГИЧЕСКОГО КЕЙСА (по 6 позиция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1403280" y="2467080"/>
          <a:ext cx="16502040" cy="7596000"/>
        </p:xfrm>
        <a:graphic>
          <a:graphicData uri="http://schemas.openxmlformats.org/drawingml/2006/table">
            <a:tbl>
              <a:tblPr/>
              <a:tblGrid>
                <a:gridCol w="4305240"/>
                <a:gridCol w="4543560"/>
                <a:gridCol w="4543560"/>
                <a:gridCol w="3109680"/>
              </a:tblGrid>
              <a:tr h="156420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Характерист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Возмож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Ограничения и рис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шения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коменд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76112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1. Средняя общеобразовательная школа, находящаяся в крупном городе N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Достаточно хорошая материально-техническая б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Технические сбои с интернет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нее скачать видео, презентации, распечатать необходимую информацию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04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2. «Деньги, грамотные покупки, накоплен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Тема интересная, имеет практическое значение и дает возможность рассмотреть реальные жизненные ситуац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Отсутствие опыта обращения с деньгами, так как еще не все дети самостоятельно не совершали покуп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Непонимание ценности товара и неумение распоряжаться личными деньг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Неумение определять цену тов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ть практико-ориентированные зада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1"/>
          <p:cNvSpPr/>
          <p:nvPr/>
        </p:nvSpPr>
        <p:spPr>
          <a:xfrm>
            <a:off x="1871640" y="1252440"/>
            <a:ext cx="155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2. ПЛАНИРУЕМЫЕ ОБРАЗОВАТЕЛЬ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106640" y="1898640"/>
          <a:ext cx="16798680" cy="8513640"/>
        </p:xfrm>
        <a:graphic>
          <a:graphicData uri="http://schemas.openxmlformats.org/drawingml/2006/table">
            <a:tbl>
              <a:tblPr/>
              <a:tblGrid>
                <a:gridCol w="4383000"/>
                <a:gridCol w="4624200"/>
                <a:gridCol w="4626000"/>
                <a:gridCol w="3165480"/>
              </a:tblGrid>
              <a:tr h="156420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Характерист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Возмож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Ограничения и рис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шения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коменд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9956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3. 3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азвитие возникновения чувства взрослости. Чем раньше будут сформированы финансовые привычки. Дети в этом возрасте активные, в большинстве своем с интересом воспринимают информацию, особенно такую, которая каким-то образом связана с жизненными ситуациями, в которых они оказываютс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Неумение оценить стоимость денежной единицы товар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, в большинстве своем, без особого интереса воспринимают информацию, особенно такую, которая связана с жизненными ситуациями, в которых они оказывают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54988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4. 26 дет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Можно организовать игровую деятельность, работу в группах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Не все ребята умеют взаимодействовать в группе и одинаково мотивированы на работу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Достаточно большой класс для формирования групп оптимального размер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команд распределить учителю, предложить самостоятельно в группах распределить обязан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1552680" y="1189080"/>
            <a:ext cx="157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roxima No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2. ПЛАНИРУЕМЫЕ ОБРАЗОВАТЕЛЬ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063800" y="1835280"/>
          <a:ext cx="17054280" cy="8645400"/>
        </p:xfrm>
        <a:graphic>
          <a:graphicData uri="http://schemas.openxmlformats.org/drawingml/2006/table">
            <a:tbl>
              <a:tblPr/>
              <a:tblGrid>
                <a:gridCol w="4449600"/>
                <a:gridCol w="4695840"/>
                <a:gridCol w="4695840"/>
                <a:gridCol w="3213000"/>
              </a:tblGrid>
              <a:tr h="156420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Характерист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Возмож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Ограничения и рис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шения/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екоменд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58812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5. Дети пассивные, зависимы от гаджетов, малоподвиж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Восприимчивы к любым заданиям и видам деятельности, предлагаемым учителе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Дети знают правила работы в группах, но не готовы к сотрудничеству и совместно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С трудом приводят примеры из жиз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Можно использовать различные методы и приемы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Дети берут пример со своих родителей при осуществлении ими различных финансовых действий, в том числе осуществлении покупок, не всегда необходимых и важных для семь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сех обучающихся в процесс занятия; повышение мотивации обучающихся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различных форм взаимодействия, чередование различных видов деятельност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6660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6. Дети из семей со средними доходами, родители имеют высшее образование, постоянную работу, мобиль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Дети перенимают модель родительского поведения, в том числе и при приобретении покупок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Слабо принимают участие в планировании покупок и выборе товаров/ус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Средний доход родителей позволяет представить разные виды и подходы при осуществлении покупок (модели осуществления покупок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Родители готовы участвовать в образовательном процессе своих дет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Непонимание в ограничении траты денег на покупку товар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У родителей практически одинаковые ценностные установки, которые усвоены их деть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roxima Nova"/>
                        </a:rPr>
                        <a:t> 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чше не давать задания 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ентом на уровен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а конкретной семь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егося, брать для заданий доход условных семей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Google Shape;106;p3"/>
          <p:cNvSpPr/>
          <p:nvPr/>
        </p:nvSpPr>
        <p:spPr>
          <a:xfrm>
            <a:off x="326880" y="1415880"/>
            <a:ext cx="186454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2. ПЛАНИРУЕМЫЕ ОБРАЗОВАТЕЛЬ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D8F-068A-4959-8E00-F9F4C673FA01}" type="slidenum"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1106640" y="2233440"/>
          <a:ext cx="16905240" cy="8307720"/>
        </p:xfrm>
        <a:graphic>
          <a:graphicData uri="http://schemas.openxmlformats.org/drawingml/2006/table">
            <a:tbl>
              <a:tblPr/>
              <a:tblGrid>
                <a:gridCol w="6041880"/>
                <a:gridCol w="6041880"/>
                <a:gridCol w="4821480"/>
              </a:tblGrid>
              <a:tr h="17607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то есть «грамотно» и как надо поступать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54696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понятия: деньги, стоимость/цена, покупка, товары, сдача.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ть, что такое грамотные покупки и что такое накопле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знавать личную ответственность при осуществлении покупо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ценивать достаточность имеющейся суммы для осуществления покупк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считать сдач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елать выбор товаров с учетом их цен и полезност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Google Shape;106;p3"/>
          <p:cNvSpPr/>
          <p:nvPr/>
        </p:nvSpPr>
        <p:spPr>
          <a:xfrm>
            <a:off x="0" y="1415880"/>
            <a:ext cx="189723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3. ОБРАЗОВАТЕЛЬНЫЕ РЕСУРСЫ И ДИДАКТ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РАЗДАТОЧНЫЕ МАТЕРИ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D521-C705-4F16-AD1E-45409BC6C494}" type="slidenum"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1" descr=""/>
          <p:cNvPicPr/>
          <p:nvPr/>
        </p:nvPicPr>
        <p:blipFill>
          <a:blip r:embed="rId3"/>
          <a:stretch/>
        </p:blipFill>
        <p:spPr>
          <a:xfrm>
            <a:off x="1212840" y="2938320"/>
            <a:ext cx="16929000" cy="758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Google Shape;106;p3"/>
          <p:cNvSpPr/>
          <p:nvPr/>
        </p:nvSpPr>
        <p:spPr>
          <a:xfrm>
            <a:off x="326880" y="1415880"/>
            <a:ext cx="186454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4. МЕТОДИЧЕСКИЙ ИНСТРУМЕНТАР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(образовательные технологии, методы и ресурс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1CB-BFC9-49F9-8433-3EE38AE9A7EB}" type="slidenum"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1"/>
          <p:cNvSpPr/>
          <p:nvPr/>
        </p:nvSpPr>
        <p:spPr>
          <a:xfrm>
            <a:off x="1701720" y="4006800"/>
            <a:ext cx="16497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лементов групповой технологии, технологии проблемного обу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, практический, частично-поисковый, словесный, обмен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ый опрос, постановка проблемы и бесе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Google Shape;106;p3"/>
          <p:cNvSpPr/>
          <p:nvPr/>
        </p:nvSpPr>
        <p:spPr>
          <a:xfrm>
            <a:off x="326880" y="1415880"/>
            <a:ext cx="186454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roxima Nova"/>
              </a:rPr>
              <a:t>5. МЕСТО ЗАНЯТИЯ ВО ВНЕУРОЧ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Google Shape;107;p3"/>
          <p:cNvSpPr/>
          <p:nvPr/>
        </p:nvSpPr>
        <p:spPr>
          <a:xfrm>
            <a:off x="18199080" y="10063080"/>
            <a:ext cx="773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560" rIns="142560" tIns="71280" bIns="71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278A-ABA4-4BCA-8D89-59BB310FA3D1}" type="slidenum">
              <a:rPr b="1" lang="ru-RU" sz="2100" spc="-1" strike="noStrike">
                <a:solidFill>
                  <a:srgbClr val="ffffff"/>
                </a:solidFill>
                <a:latin typeface="Proxima Nova Rg"/>
                <a:ea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Рисунок 4" descr=""/>
          <p:cNvPicPr/>
          <p:nvPr/>
        </p:nvPicPr>
        <p:blipFill>
          <a:blip r:embed="rId2"/>
          <a:stretch/>
        </p:blipFill>
        <p:spPr>
          <a:xfrm>
            <a:off x="930240" y="303120"/>
            <a:ext cx="6983280" cy="59544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1"/>
          <p:cNvSpPr/>
          <p:nvPr/>
        </p:nvSpPr>
        <p:spPr>
          <a:xfrm>
            <a:off x="1828800" y="5083200"/>
            <a:ext cx="158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по финансовой грамот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3:27:04Z</dcterms:created>
  <dc:creator>Торичко Роман Анатольевич</dc:creator>
  <dc:description/>
  <dc:language>en-US</dc:language>
  <cp:lastModifiedBy>Марта Анатольевна Денисенко</cp:lastModifiedBy>
  <dcterms:modified xsi:type="dcterms:W3CDTF">2024-10-17T10:29:26Z</dcterms:modified>
  <cp:revision>39</cp:revision>
  <dc:subject/>
  <dc:title>Презентация PowerPoint</dc:title>
</cp:coreProperties>
</file>